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gif" ContentType="image/gif"/>
  <Override PartName="/ppt/media/image7.jpeg" ContentType="image/jpeg"/>
  <Override PartName="/ppt/media/image3.jpeg" ContentType="image/jpeg"/>
  <Override PartName="/ppt/media/image4.gif" ContentType="image/gif"/>
  <Override PartName="/ppt/media/image5.gif" ContentType="image/gif"/>
  <Override PartName="/ppt/media/image9.png" ContentType="image/png"/>
  <Override PartName="/ppt/media/image6.gif" ContentType="image/gif"/>
  <Override PartName="/ppt/media/image8.gif" ContentType="image/gif"/>
  <Override PartName="/ppt/media/APPLAUS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04920" y="235080"/>
            <a:ext cx="8458200" cy="6330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cc"/>
                </a:solidFill>
                <a:latin typeface="AbcBulletin"/>
              </a:rPr>
              <a:t>Guess the Covered Word</a:t>
            </a:r>
            <a:endParaRPr b="0" lang="en-US" sz="72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447920" y="33526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Bulletin"/>
              </a:rPr>
              <a:t>Spelling Words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Bulletin"/>
              </a:rPr>
              <a:t>Week 16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62120" y="5029200"/>
            <a:ext cx="7467480" cy="764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bcPrint"/>
              </a:rPr>
              <a:t>She is </a:t>
            </a:r>
            <a:r>
              <a:rPr b="0" lang="en-US" sz="4400" spc="-1" strike="noStrike">
                <a:solidFill>
                  <a:srgbClr val="ff0000"/>
                </a:solidFill>
                <a:latin typeface="AbcPrint"/>
              </a:rPr>
              <a:t>first</a:t>
            </a:r>
            <a:r>
              <a:rPr b="0" lang="en-US" sz="4400" spc="-1" strike="noStrike">
                <a:solidFill>
                  <a:srgbClr val="3333cc"/>
                </a:solidFill>
                <a:latin typeface="AbcPrint"/>
              </a:rPr>
              <a:t> in li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4800600" cy="3581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38080" y="4419720"/>
            <a:ext cx="739152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She has 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been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 doing her pap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71800" y="4419720"/>
            <a:ext cx="137160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819520" y="838080"/>
            <a:ext cx="320040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38080" y="4419720"/>
            <a:ext cx="739152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She has 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been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 doing her pap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819520" y="838080"/>
            <a:ext cx="320040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838080" y="762120"/>
            <a:ext cx="68580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ook at th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ords quickly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n we will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pell them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ogether b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hanting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09680" y="236232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bcPrint"/>
              </a:rPr>
              <a:t>n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cc"/>
                </a:solidFill>
                <a:latin typeface="AbcPrint"/>
              </a:rPr>
              <a:t>mak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cc33"/>
                </a:solidFill>
                <a:latin typeface="AbcPrint"/>
              </a:rPr>
              <a:t>tha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cc"/>
                </a:solidFill>
                <a:latin typeface="AbcPrint"/>
              </a:rPr>
              <a:t>firs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bcPrint"/>
              </a:rPr>
              <a:t>bee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895480" y="762120"/>
            <a:ext cx="3427560" cy="3871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38080" y="48769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cPrint"/>
              </a:rPr>
              <a:t>Mickey says, “You did A-OK!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609480"/>
            <a:ext cx="6934320" cy="56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 Bold"/>
              </a:rPr>
              <a:t>Say the word as the arrow points to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ff0000"/>
                </a:solidFill>
                <a:latin typeface="AbcPrint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AbcPrint"/>
              </a:rPr>
              <a:t>ma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9933"/>
                </a:solidFill>
                <a:latin typeface="AbcPrint"/>
              </a:rPr>
              <a:t>than</a:t>
            </a:r>
            <a:r>
              <a:rPr b="0" lang="en-US" sz="3600" spc="-1" strike="noStrike">
                <a:solidFill>
                  <a:srgbClr val="ff9933"/>
                </a:solidFill>
                <a:latin typeface="AbcPri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9900cc"/>
                </a:solidFill>
                <a:latin typeface="AbcPrint"/>
              </a:rPr>
              <a:t>fir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cc33"/>
                </a:solidFill>
                <a:latin typeface="AbcPrint"/>
              </a:rPr>
              <a:t>b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2362320"/>
            <a:ext cx="1904760" cy="30456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320040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403848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4876920"/>
            <a:ext cx="1904760" cy="30456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563868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828800" y="4419720"/>
            <a:ext cx="14479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4343400"/>
            <a:ext cx="708660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I have </a:t>
            </a:r>
            <a:r>
              <a:rPr b="0" lang="en-US" sz="4800" spc="-1" strike="noStrike">
                <a:solidFill>
                  <a:srgbClr val="33cc33"/>
                </a:solidFill>
                <a:latin typeface="AbcPrint"/>
              </a:rPr>
              <a:t>no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 shoes on my fe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4419720"/>
            <a:ext cx="838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95480" y="838080"/>
            <a:ext cx="3505320" cy="312444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28800" y="4419720"/>
            <a:ext cx="14479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4343400"/>
            <a:ext cx="708660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I have </a:t>
            </a:r>
            <a:r>
              <a:rPr b="0" lang="en-US" sz="4800" spc="-1" strike="noStrike">
                <a:solidFill>
                  <a:srgbClr val="33cc33"/>
                </a:solidFill>
                <a:latin typeface="AbcPrint"/>
              </a:rPr>
              <a:t>no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 shoes on my fe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895480" y="838080"/>
            <a:ext cx="3505320" cy="312444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4876920"/>
            <a:ext cx="7391520" cy="14346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The bunny will </a:t>
            </a:r>
            <a:r>
              <a:rPr b="0" lang="en-US" sz="4400" spc="-1" strike="noStrike">
                <a:solidFill>
                  <a:srgbClr val="ff9900"/>
                </a:solidFill>
                <a:latin typeface="AbcPrint"/>
              </a:rPr>
              <a:t>make</a:t>
            </a: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 a cak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4952880"/>
            <a:ext cx="129564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90920" y="914400"/>
            <a:ext cx="398124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38080" y="4876920"/>
            <a:ext cx="7391520" cy="14346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The bunny will </a:t>
            </a:r>
            <a:r>
              <a:rPr b="0" lang="en-US" sz="4400" spc="-1" strike="noStrike">
                <a:solidFill>
                  <a:srgbClr val="ff9900"/>
                </a:solidFill>
                <a:latin typeface="AbcPrint"/>
              </a:rPr>
              <a:t>make</a:t>
            </a: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 a cak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90920" y="914400"/>
            <a:ext cx="398124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90720" y="4876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4343400"/>
            <a:ext cx="716256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I have more dogs than ca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4419720"/>
            <a:ext cx="160020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2057400" cy="1981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743200" y="1066680"/>
            <a:ext cx="2971800" cy="3124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867280" y="2514600"/>
            <a:ext cx="2133720" cy="1800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477120" y="1219320"/>
            <a:ext cx="2133360" cy="1800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4876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4343400"/>
            <a:ext cx="716256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I have more dogs 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than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 ca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2057400" cy="1981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743200" y="1066680"/>
            <a:ext cx="2971800" cy="3124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867280" y="2514600"/>
            <a:ext cx="2133720" cy="1800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6477120" y="1219320"/>
            <a:ext cx="2133360" cy="1800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029200"/>
            <a:ext cx="7467480" cy="764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bcPrint"/>
              </a:rPr>
              <a:t>She is first in li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5029200"/>
            <a:ext cx="99036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4800600" cy="3581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gewood User</cp:lastModifiedBy>
  <dcterms:modified xsi:type="dcterms:W3CDTF">2009-01-25T21:45:30Z</dcterms:modified>
  <cp:revision>13</cp:revision>
  <dc:subject/>
  <dc:title>Guess the Covered Word</dc:title>
</cp:coreProperties>
</file>